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C268-ED8C-4301-A4EB-0A6520661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3C3A-AA9A-4BE9-AC21-FDE32A3B0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CFE0-E983-47E4-B32B-CE9E1F461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39A-5B76-4F66-8C48-C43AB63C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un.ca/biology/scarr/Arginine_nutritional_mutan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2801-B36C-4795-8D35-2D66E6308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5D52-2821-40D9-8910-BBC0D1559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A5A2-D709-48D1-B0C5-0E7C30F04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an conclude that a disease is hereditary if there is a family history, i.e. a genetic link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0E9B-ED45-4872-A6A3-62519E1E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84E0-287D-4BEB-8C1A-6C5811EE7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2FB7-1024-4C76-90F4-1894C3599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02E4-F29D-47FE-96E7-4ED0E4EE5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2B45-15B1-4823-9ABB-417AD2EFB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F51F-5900-4AEB-8C8A-73A301F5A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B60A-CEE7-4851-9872-643CF313D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97C-EB71-4D8A-BB0A-3526EC16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E49-FD19-4B36-94A7-2F44318F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1C2-40E5-4ABC-A62E-37210160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D5A-DD03-4B88-9BC7-0974DA8B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195-2148-473C-A51E-48BE5297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B39-6876-403A-B2D5-9A2BB2C2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2D8-1288-4514-968C-A67E82A9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287-95EF-4024-84CE-3FBA13AA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78B-43CB-4F9E-8CD0-E07878D4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A85-EA64-4B6B-88E4-4F06F0B2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4CB-F7EA-49F1-8626-A5CD7375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51F-4C96-4E77-BF70-1AAD1080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E944-E401-4654-B6B3-9A97A5DE2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5469134899_8a32c6785d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38813_Arginine_metabolism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work resulted in the o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cellent slideshow that shows the Beadle &amp; Tatum experi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13bio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urine to turn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kap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09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breaking down alkap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born error of metabolis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connection between DNA (genes) &amp;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arrod did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5469059067_04bb4c7886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 (19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red bread mould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urospora cra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Nobel_Laureates_1958_Beadle_Tatum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h3_mold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 tested with intermed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5-11-12T18:20:13Z</dcterms:modified>
  <cp:revision>120</cp:revision>
  <dc:subject/>
  <dc:title>Molecular Genetics</dc:title>
</cp:coreProperties>
</file>